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6E48-95E2-4242-93C2-E96282964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C9A4-03B3-41A9-AFB3-D6ED610F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9FCB-4DDC-43FE-ADA3-E78AC76E5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0CEF-478C-4DA7-953F-95AFF76C7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D5DF-5C8B-40D0-AB7F-4DFD461B6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4212-D439-41CB-A235-83D57ED6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FA43D-9201-4700-9CB0-F9345D79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3C3C-AFC6-4D44-89DE-CE5C33A8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5512-0425-4ABA-B334-CCDB9E3D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1811-D52E-4454-8B6D-49B974F1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4565-0B0D-4AC2-B20B-D27DA952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C04B-2FB3-4E01-B5E1-3942C397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377A-C8C3-4EA5-B680-82FE1583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E2C7-3B33-43C8-9209-667DD790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78D3-2D8A-4F3F-8DE2-9661C59C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7AFA-6AEC-4579-A8A1-01B635BA0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BEF1-BAE5-48ED-8A26-5E0C7759E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521C5-68D2-494E-B416-8A017775C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7B2EA-BC5B-4822-BF4E-987EE2BD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22978-F796-4E3A-8DD0-2A519C3B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BE6A0-3C97-4879-A160-8EF365AC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B3F0C-2149-4F0B-87DB-35414E9D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2F38-5E5A-4A2F-8B7A-5ECFA5FA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C9BD3-A4C7-4204-8A8C-17057C6A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D4F2D-796F-4604-8512-68842131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D300F-776D-489E-9431-E995D188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B0349-6F06-4119-9F3B-BF29D57E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7A831-2D49-49F6-832D-F5E6C7D2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7D14C-DAAD-4479-82FC-6974D3818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C3ABC-1AA3-45F1-9960-2359D1861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9F8DD-74C0-4E6C-96EB-A934B5F0D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1C1F6-1A36-4F08-9900-1FB744B5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92DF1-6C06-40BF-858F-0940FA6A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D63B-02DD-4E57-ABE0-1B0A2AFD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B186F-139E-473D-B409-CB289648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24B88-7EB1-4F42-9962-A281D22B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99989-0D5B-4744-9BA0-6A18A77F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055B2-C89F-42F7-9CCF-72F63BA5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7615C-6509-4547-B386-1636188A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746C3-7530-4404-83F0-4ED447E5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CDF50-0B7E-459A-ACB5-A8ADD994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A7C48-0418-4F33-9D60-C25ADED46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B4C62-008E-47FF-905A-35D27F36F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68D3F-9740-4505-9CA5-18F788730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6F17-63D2-4A53-BE76-B78DC39F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A2620-0196-4B36-9337-1FE8C41D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5C07E-8868-4408-B8C7-ABC67D40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915F2-8E41-46DF-96AD-5949BC10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3B5EF-D4F7-4911-9F11-9AF2DFF7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E953B-A634-4414-80CA-51405DF3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81CD5-21B0-4DC6-8449-8CC9C60D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DCE4D-08CC-4856-85AD-75E2C5E7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B2EEC-FAA6-42AD-9EE7-A25653ED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0EAFA-C744-4008-AAD3-5DA03ACE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AC992-5081-4628-8DF9-0FCC69BEC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49FA-24D5-4948-982A-856922E8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76062-5D69-42F4-A153-6B6C1CB36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1CF17-5628-4A8E-BA72-6CC9DFBB1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414FC-F9EC-4EDE-A8BE-59FED6BD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5B6C1-2AE3-432E-B817-7EB5BDBB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69347-A7BA-4B26-A25B-D2309238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9FA51-0B8E-4840-88AE-43EAD09C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B386A-FD3A-4D34-BA83-64D9E0DA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70452-7D30-4CB5-A1E9-8DEB2D5A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CF280-0FD7-47FD-A91A-2C679D09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0D9F6-8924-4FD5-A22D-34153AF3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950D-F953-40C6-B297-CC70B6F1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1470F-841E-49A9-9D9B-E7A0484E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D3F40-9290-400A-B4BE-D7F808C80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8C050-FD40-4A2F-BDEC-B40C2E494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8EA94-21B8-47D4-947E-9F6C72CA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E4BE8-CF6A-4A58-AA82-A776D23C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A81F4-857C-4748-8983-08D97626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F1031-1596-4042-9605-E38BA03F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FE4F4-7D94-43EF-B30E-AAE59A12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83475-1B84-4803-A3E4-F6F009E8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8483F-49A8-49D2-B701-F88254B1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7484-5A1B-4848-8E8E-530948CB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9C34D-FF2F-4D0E-A134-7FDDD27D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93323-4C6B-4FDD-9859-AECC218B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99D09-034D-4D72-9183-ED325FAD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4ABE0-91F9-4C04-B763-1485F3DB2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6CEF7-BBEB-4D28-9610-103050F9D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0C0D9-DC50-488A-A2A7-0EBF1B3BE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4F473-E59E-466F-9BAA-8C50C944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C9B2C-12BD-4974-8567-8F85029A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11B3A-9AF6-4E76-8EE2-341AE33D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9422C-9828-4F92-984F-3A1C3A45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E485-2890-454A-9584-65386165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9689B-8CAF-4779-B5CA-5A11CD8C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11556-3AD8-41FB-916F-4A0D86B9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517AA-A870-439A-B3BD-04701041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79DEF-FF39-4937-8964-1442BC8B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815A6-4CB6-4397-A25D-90518CBB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A0E23-F7EA-4D87-8777-6D41A23DB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0B233-8D23-4083-A357-0FD734595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E50D-E68A-4B1A-9A65-9867634FDB3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C7D9-26BF-497D-835A-F61AD92A918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B9B4-185F-4070-9B46-CA0B5BAF877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9F5F-EAB3-46D0-8EA5-7932A706EE9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E98B-4E45-417D-8366-08F2604D466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5AA9-2E4A-40B3-8D11-DE1E3D37ED2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EA0B-B78F-4454-B738-5568F7DE471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7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8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B4CB-970C-4BEA-906B-ED8F973803B4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Box 3"/>
          <p:cNvSpPr/>
          <p:nvPr/>
        </p:nvSpPr>
        <p:spPr>
          <a:xfrm>
            <a:off x="1066680" y="1035000"/>
            <a:ext cx="73915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Sarah went to the store to buy some groceries.  She got a loaf of bread for $2.00 and lunch meats for $7.00.  She got 3 oranges for $1.00 each and a cantaloupe originally priced at $6, but was $2 off.  How much did she spend at the super market?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Box 5"/>
          <p:cNvSpPr/>
          <p:nvPr/>
        </p:nvSpPr>
        <p:spPr>
          <a:xfrm>
            <a:off x="457200" y="52236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James went to the store to buy some baseball cards.  He got 3 new cards for $2 each.  There were also cards that were marked ½ off.  He bought 2 of these originally priced at $5, 1 originally priced at $6, and 4 that were originally priced at $9.  If James used a gift certificate worth $10, how much money did he spend in the store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Box 2"/>
          <p:cNvSpPr/>
          <p:nvPr/>
        </p:nvSpPr>
        <p:spPr>
          <a:xfrm>
            <a:off x="457200" y="52236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laire and Tom are calculating the scoring total for a football game.  During the game, the Eagles scored 3 touchdowns (6 points each), missed both extra points, and got 2 field goals (3 points each).  The Giants got 2 touchdowns with both of the extra points, 1 safety (2 points) and 3 field goals.  Who won the game and by how much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03:30:34Z</dcterms:created>
  <dc:creator>Jennifer Schwinghammer</dc:creator>
  <dc:description/>
  <dc:language>en-US</dc:language>
  <cp:lastModifiedBy>Jennifer Schwinghammer</cp:lastModifiedBy>
  <dcterms:modified xsi:type="dcterms:W3CDTF">2008-05-28T03:39:34Z</dcterms:modified>
  <cp:revision>1</cp:revision>
  <dc:subject/>
  <dc:title>Slide 1</dc:title>
</cp:coreProperties>
</file>